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BB6-7DD2-4701-9233-99709F83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3AE-D1CE-4353-8DE1-B21370F3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06A-31EA-4644-B89D-80A38A03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E5D-AE9A-4EE4-A230-451C06E1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CF96-6197-43BE-AC46-553B4434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35E5-6440-4D06-B556-CAF18AD1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C9F5-F8E3-4F43-86B2-0E2F2297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982E-9F02-46BF-86F3-38D31801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1DD2-41EB-486D-9E52-AC0E6636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ABEB-1B5B-4A44-8424-1BFA8F87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6714-1702-4ECE-AF16-AB12E70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724-68C2-44F4-B28E-C7703EAF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2A49-AF62-4E79-B88E-7D504B9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AD6A-F451-42A5-9E8D-EBA7E88E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A165-E736-413A-B5B6-8DBB7AF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16AC-930F-4E07-9E54-C49EE63D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4461-0CE6-4C10-82E8-76A78B45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A60-C73E-47CF-B016-53DB9A6D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75C-1A9D-4D8C-BC11-F6C5BC48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2E8-8DFE-41E4-BF1F-204EA11F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27C-838C-4931-9F9E-FA314107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268-BC32-47D5-9DBE-C9F3163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7BF-9625-4640-9F1B-401892C2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1B1-229E-4D1F-8E89-6B47146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8F9-5B72-4DCD-ACBB-B78E0B351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2FF0-3AC2-4C9A-BBDC-3AABF1BF4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4360" y="1413000"/>
          <a:ext cx="3671640" cy="3400200"/>
        </p:xfrm>
        <a:graphic>
          <a:graphicData uri="http://schemas.openxmlformats.org/drawingml/2006/table">
            <a:tbl>
              <a:tblPr/>
              <a:tblGrid>
                <a:gridCol w="917280"/>
                <a:gridCol w="919080"/>
                <a:gridCol w="917640"/>
                <a:gridCol w="91764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859280" y="1524960"/>
            <a:ext cx="36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 u="sng">
                <a:solidFill>
                  <a:srgbClr val="ffffff"/>
                </a:solidFill>
                <a:uFillTx/>
                <a:latin typeface="Comic Sans MS"/>
              </a:rPr>
              <a:t>Y sgwâr gw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ff"/>
                </a:solidFill>
                <a:latin typeface="Comic Sans MS"/>
              </a:rPr>
              <a:t>Pa rif ddylai fod yn y sgwar gw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25:43Z</dcterms:created>
  <dc:creator>Carwyn</dc:creator>
  <dc:description/>
  <dc:language>en-US</dc:language>
  <cp:lastModifiedBy>Carwyn</cp:lastModifiedBy>
  <dcterms:modified xsi:type="dcterms:W3CDTF">2008-12-02T20:31:26Z</dcterms:modified>
  <cp:revision>1</cp:revision>
  <dc:subject/>
  <dc:title>Slide 1</dc:title>
</cp:coreProperties>
</file>